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447-B448-4F9F-89BB-8F9A0418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B97-9F55-44B7-9A61-340C0BC6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B4A-8B1A-427C-B5DA-F831E9CE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188-67CE-451B-A72E-295249EA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8AD7-4B74-4896-B648-65D7FF4A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2AF-4C2F-4FCA-BAF0-A0874D9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E5E4-300E-41DB-8E8A-6BB55A8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C0BD-C0A8-4026-8388-A9609900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8225-D24C-4891-A4C5-03369075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E7B-9A3C-4487-9D59-4B3C3B1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9BC-8059-4B1F-83F1-CE78137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5CA-B0D9-4ED0-83B7-78EB027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8C8E-D962-4687-B4BD-D3596A1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97ED-CE84-4CF7-82A1-059B794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B991-1C4F-4A46-AFA0-62FF41E1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9E3B-AF96-4AC0-8119-05FBE330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1B4-C619-4522-ACBF-95D92F59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038-2679-4AF3-B755-46D54BB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C07-9F5B-4582-9A1D-C5BFA76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A41-140A-471B-8DAA-8044635E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97C-7F0F-4463-A5FB-7A2C804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D0F-1DCF-4CED-88A2-BE43051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7D3-A750-419F-BF0B-9405F104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0B7-0153-4AA3-B82A-AF311A82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4CB4-B818-4897-9C5E-8FCA8204DE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B80C-2BE2-4BE7-B619-564C36FC25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wmf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ATER AND LAND BIOM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~ Ab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ral Reefs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so many animals in the coral re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 down there cause it’s so wa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reef is divers that come down and take pics of the f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343240" cy="147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2085840" cy="1400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3619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ep Se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eper you go in to the ocean the colder it 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eper you get the stranger the animals 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all ways dark the deeper you 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1981440" cy="1425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867280" y="1752480"/>
            <a:ext cx="1752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4952880" y="-13716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ropical Rainfore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048120" y="3200040"/>
            <a:ext cx="3657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The rain forest is a wet place that stays warm all year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-1371600" y="1066680"/>
            <a:ext cx="3124080" cy="2003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572160"/>
            <a:ext cx="4572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-1523880" y="434340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-2819520" y="6019920"/>
            <a:ext cx="5715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me of the animals are for instints a lion.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live in a Tropical climate so they have more food and water.</a:t>
            </a:r>
            <a:endParaRPr b="0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620120" y="380880"/>
            <a:ext cx="2181240" cy="1409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72200" y="1828800"/>
            <a:ext cx="43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me of the tropical rainforest get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6c,that is one cooled rain fo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8381880" y="3581280"/>
            <a:ext cx="1200240" cy="14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60880" y="533412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un fact is that cact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grow in the rainfor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’s to much rain and 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eally hot t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ciduous Forest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28600" y="335232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eciduous forest have many colors and little amount of r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gets cooler in the fall and winter unlike the rain fo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ides animals staying up all year they hibern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91440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67280" y="55627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ead of rain all ye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the rainforest its all the seas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8240" y="1981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deer come here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inter cause there is 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preda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19920" y="3429000"/>
            <a:ext cx="2361960" cy="1938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62120" y="4648320"/>
            <a:ext cx="1800000" cy="1447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55000" y="5334120"/>
            <a:ext cx="39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e fact about the deciduous for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that creatures hibernat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cores ther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re but this is gust two of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assland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81240" y="2743200"/>
            <a:ext cx="327636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bout two hundred years ago  tall grass covered all most all of the Midw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438280" cy="1959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2960" y="2590920"/>
            <a:ext cx="34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n the Grasslands there are v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few trees there. Cause the so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s bad there and so its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781680" y="914400"/>
            <a:ext cx="2133720" cy="15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934320" y="3581280"/>
            <a:ext cx="1809720" cy="1381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93080" y="3809880"/>
            <a:ext cx="43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act about this land is that m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it has became farm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ll they do have a lot of land, so the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it as farm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276720" y="685800"/>
            <a:ext cx="2200320" cy="1438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52880" y="510552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ome of the animals are bi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here a lot more but there a l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mor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hey live here cause ther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of grass to e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Taiga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327672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kind of biome covers most of Canada and Russi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s cold here and sort of d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133720" cy="1521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12600" y="5105520"/>
            <a:ext cx="302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lot of pines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edles makes fo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rough out the year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157032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92520" y="1676520"/>
            <a:ext cx="45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Some of the animals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bears live 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They sleep during the winter cause there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Les fo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786720"/>
            <a:ext cx="190440" cy="14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610480" y="529272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6858000"/>
            <a:ext cx="100080" cy="7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894240" y="2503440"/>
            <a:ext cx="61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HTMLTextArea2" descr=""/>
          <p:cNvPicPr/>
          <p:nvPr/>
        </p:nvPicPr>
        <p:blipFill>
          <a:blip r:embed="rId6"/>
          <a:stretch/>
        </p:blipFill>
        <p:spPr>
          <a:xfrm>
            <a:off x="0" y="6791400"/>
            <a:ext cx="76320" cy="13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553080" y="30492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5181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act pine needles has this w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 on them so in the winter they don’t fall off as eas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3352680" y="3581280"/>
            <a:ext cx="2000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sert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312408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desert is all ways hot in the day, but at night it gets co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438560" cy="1447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06600" y="3465360"/>
            <a:ext cx="31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esert has less then 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h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24480" y="2057400"/>
            <a:ext cx="1981440" cy="144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19120" y="5562720"/>
            <a:ext cx="49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of the animals such as lizards live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ason wy is cause it’s so ho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86400" y="4191120"/>
            <a:ext cx="1628640" cy="1314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40" y="579132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act for the desert i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f the largest deserts is in As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838080" y="4114800"/>
            <a:ext cx="21621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Tundra Bio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327672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undra is vary cold with a little rain it’s more in the northern  areas in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200320" cy="1362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70200" y="2666880"/>
            <a:ext cx="36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Some of the animals h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are fox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There is a a right amount for ea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anim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857600" cy="1419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5880" y="5410080"/>
            <a:ext cx="41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Some of the animals need to m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o other parts of the tund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nly cause they  ether don’t have w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hey need here or they need shel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2314440" cy="1257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48840" y="3886200"/>
            <a:ext cx="32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act of the tundra i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short sea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don’t have it as lo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 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581280" y="1905120"/>
            <a:ext cx="1638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5562720"/>
            <a:ext cx="34290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rivers there is a lot of wat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ome of th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rivers has lots of plants in i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2361960" cy="1406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2040" y="5942160"/>
            <a:ext cx="31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f you think of it there is a l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of plants and animals th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live in the w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248520" y="4191120"/>
            <a:ext cx="2381040" cy="147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04200" y="2514600"/>
            <a:ext cx="38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Some of the animals that l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in the water are fi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So some of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live  in fast waters and some in slow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486400" y="1066680"/>
            <a:ext cx="2009880" cy="1457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2720" y="2209680"/>
            <a:ext cx="344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Did you know that ott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live in the wa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here the ones how help cat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Fish so they don’t 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ver popul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914400" y="609480"/>
            <a:ext cx="18669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Wet land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4760" y="5029200"/>
            <a:ext cx="2819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wet lands is all most covered with wa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wet lands are flooded ever year cause there’s so much wa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190476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184000" y="5562720"/>
            <a:ext cx="368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many kind’s of wet 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wetlands has a lot of saw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28600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02040" y="2017800"/>
            <a:ext cx="32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animals her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igato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igators are big sca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629400" y="380880"/>
            <a:ext cx="1752480" cy="1409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80" y="2209680"/>
            <a:ext cx="480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ne of the important parts of the wet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re estua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estuaries are streams that flow into a oce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914400" y="685800"/>
            <a:ext cx="2076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5:41Z</dcterms:created>
  <dc:creator>AK3463</dc:creator>
  <dc:description/>
  <dc:language>en-US</dc:language>
  <cp:lastModifiedBy>AK3463</cp:lastModifiedBy>
  <dcterms:modified xsi:type="dcterms:W3CDTF">2012-11-12T19:55:08Z</dcterms:modified>
  <cp:revision>9</cp:revision>
  <dc:subject/>
  <dc:title>WATER AND LAND BIOMES</dc:title>
</cp:coreProperties>
</file>